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F2F-09BE-460C-BF84-52B42827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7F0-CD2F-4A18-BA45-36595E37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904-B65B-4A82-9FFD-357FEF76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0E1-72B4-4B9A-B0E0-DD597163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C6E-624C-4568-9B4F-EEB89C3A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EEB-DA30-4AD6-9B64-8A69FA2E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00E-3D68-433B-A960-858BEDBE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CBC-061F-4849-B366-F5AAD0EA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791-234B-43A6-B24D-2AC6698D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AD3-7F84-4649-9921-DB65CC2F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4E1-16BF-4143-9EF9-64E7192C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117-B757-4379-A223-4CFC0A6F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ED38-82B8-4496-BF47-ED9A1C528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0" y="38088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0492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团团圆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getherness and Re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617220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6172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火锅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uo gu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24080" y="5867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年糕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ian ga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522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年年高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Being Promoted Every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62320" y="22860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长长久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nge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5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长年菜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hang nain c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0" y="30492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财源广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饺子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jiao z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0" y="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年年进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e Every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5943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红烧蹄膀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ong shao ti pa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0" y="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十全十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verything Is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烩十锦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ui shi j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0" y="1522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圆滿吉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holeness and Prospe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全鸡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quan j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0" y="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平安吉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pp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58672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苹果，桔子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ing gu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ju z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38280" y="22860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年年有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bundance Every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6019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鱼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y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0" y="1522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招财进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春卷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hun ju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8:11:59Z</dcterms:created>
  <dc:creator>ISB ISB</dc:creator>
  <dc:description/>
  <dc:language>en-US</dc:language>
  <cp:lastModifiedBy> </cp:lastModifiedBy>
  <dcterms:modified xsi:type="dcterms:W3CDTF">2004-11-13T06:27:23Z</dcterms:modified>
  <cp:revision>16</cp:revision>
  <dc:subject/>
  <dc:title>PowerPoint Presentation</dc:title>
</cp:coreProperties>
</file>